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D053-A367-4CA1-9CF7-E4690B5FE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9DA7-4CE3-42A5-8203-3B1C50871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7EF3-9625-46E0-ACCB-632E116D5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9425-1B50-4B16-8C5C-0B286FB5F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251-57EB-4150-9132-CF59E2C9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D70-EBDD-44A4-A1FD-BA0D6CD0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0B4-8337-4864-92E0-022908F2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27A-9717-495B-BF00-94CA5948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F826-177A-4DAC-8A94-C8143762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4B4D-BCCD-468F-B2C2-8396E051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58CE-CBA0-45E9-B8F0-919B8AA3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DE1D-E6A8-4A81-AE80-8D498FB3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FB81-5B1C-4838-A3B4-F7C0803A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D24A-BE2E-496F-B4DF-33FA2075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5AAB-5805-4351-ADB5-AF9728C7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DBC-A464-40D8-BA9C-75A4C753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61E7-EF19-44CB-850D-BAF18366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EECC-0F8B-4AF0-AF65-953A4DB1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69CF-84B4-45F3-B436-AF59E035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7C32-8FB0-46AC-8CF9-3DCBDF1B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7CFC-BF1D-48BC-A490-FC0F2EE3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FD7-0255-41A7-8EA8-40068452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DED-2F84-4D99-825C-04DA87CB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1BA-F964-41A6-B591-8ADB315F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2AB-6C59-44A6-9374-50A41D38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8EE-779B-4A75-AD5A-786C9813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3F8-7217-4A13-8FD8-E709C989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00B-4897-44F8-A669-D3D01001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5EA0-3E59-49CD-88F3-A8734785273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2A55-34B3-4C77-9FCB-5E32D1539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1F70-D15B-4AE3-83FF-F16AA9A9CAD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5BC6-C6A7-4230-960A-1E4078972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801720" y="2681280"/>
            <a:ext cx="83120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  <a:ea typeface="Rockwell"/>
              </a:rPr>
              <a:t>Training of Core Train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  <a:ea typeface="Rockwell"/>
              </a:rPr>
              <a:t>CPG Management of  Diabetes In Pregn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  <a:ea typeface="Rockwell"/>
              </a:rPr>
              <a:t>Postpartum &amp; Contra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B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Dr. Lili Zuryani Marmu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Family Medicine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Klinik Kesihatan Gunung Rap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4168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Lifestyle Modific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Lifestyle modification includes medical nutritional therapy, physical activity and behavioural modifi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n women with history of GDM, lifestyle modification has been shown to be effective in reducing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nsulin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development of T2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6080" y="6275520"/>
            <a:ext cx="12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1. Kiley JW, Hammond C, Niznik C, et al. Postpartum glucose tolerance in women with gestational diabetes using levonorgestrel intrauterine contraception. Contraception. 2015;91(1):67-7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3EFC-C4EF-42DC-9633-31D34DC95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Recommendation 1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In women with history of GD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OGTT should be performed at 6 weeks after delivery to detect diabetes and pre-diabetes. If the result is negative, annual screening should be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with abnormal postpartum modified glucose tolerance test, metformin and intensive lifestyle intervention should be considered to prevent diab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breastfeeding of at least 3 months or longer should be encouraged to reduce the risk of diab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2E9F-CFF5-4A1B-9194-DA4402F2E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1b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Rockwell"/>
                <a:ea typeface="Rockwel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5EA2-D4D1-4130-BD67-BC33C4778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Out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lucos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armaco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a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eastfee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festyle mod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C15A-D110-42CA-A9D4-E4F34A3EE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1b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Rockwell"/>
                <a:ea typeface="Rockwell"/>
              </a:rPr>
              <a:t>GLUCOSE MONITO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37C8-A77A-4F0B-8750-6020942F8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Postpartum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 txBox="1"/>
          <p:nvPr/>
        </p:nvSpPr>
        <p:spPr>
          <a:xfrm>
            <a:off x="223920" y="1456920"/>
            <a:ext cx="11571120" cy="29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42720" indent="-3427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existing diabetes on insulin treatment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440" indent="-4320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ir dose immediately after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440" indent="-4320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blood glucose to establish the appropriate d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440" indent="-4320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are at increased risk of hypoglycaemia in the postnatal period, especially when breastf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440" indent="-4320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advise to have a meal or snack available before or during feed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women diagnosed with GDM should be able to discontinue their insulin immediately after delivery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1680" y="5807160"/>
            <a:ext cx="1216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aysian Endocrine &amp; Metabolic Society and Ministry of Health Malaysia. Management of Type 2 Diabetes Mellitus (5th Edition). Kuala Lumpur: MEMS &amp; MOH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National Collaborating Centre for Women's and Children's Health (UK). Diabetes in pregnancy: management of diabetes and its complications from preconception to the postnatal period. London: NICE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51BB-A51B-4DF9-BC4D-46C978CF9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Postpartu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 txBox="1"/>
          <p:nvPr/>
        </p:nvSpPr>
        <p:spPr>
          <a:xfrm>
            <a:off x="212760" y="1282680"/>
            <a:ext cx="115711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In women with history of GDM, OGTT should be performed at 6 weeks postpartum to detect diabetes and pre-diabetes. If negative, annual screening should be performed.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6080" y="6275520"/>
            <a:ext cx="12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National Collaborating Centre for Women's and Children's Health (UK). Diabetes in pregnancy: management of diabetes and its complications from preconception to the postnatal period. London: NICE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E306-4DC9-43F2-A07A-81ACEDE9E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Medic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 txBox="1"/>
          <p:nvPr/>
        </p:nvSpPr>
        <p:spPr>
          <a:xfrm>
            <a:off x="275760" y="148248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ost-partum metformin therapy significantly prevents newly-diagnosed diabetes in women with history of GDM compared with placeb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For women with pre-existing DM, assessment to return to pre-pregnancy medication should be made at six weeks postpart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4038480" y="64674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CDB2-E9BB-4D53-A7C9-4FEBC7DE8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Breastfeed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Breastfeeding of &gt;3 months in women with history of GDM is associated with lower risk of diabete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Breastfeeding of &gt;9 months is associated with lower incidence of metabolic syndrome compared with shorter dura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Breastfeeding reduces the odds of abnormal OGTT at 12 weeks compared with bottle-feeding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31680" y="5254560"/>
            <a:ext cx="12160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. Refuerzo JS, Viteri OA, Hutchinson M, et al. The effects of metformin on weight loss in women with gestational diabetes: a pilot randomized, placebo-controlled trial. Am J Obstet Gynecol. 2015;212(3):389.e1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7. Ziegler AG, Wallner M, Kaiser I, et al. Long-term protective effect of lactation on the development of type 2 diabetes in women with recent gestational diabetes mellitus. Diabetes. 2012;61(12):3167-317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8. Gunderson EP, Jacobs DR Jr, Chiang V, et al. Duration of lactation and incidence of the metabolic syndrome in women of reproductive age according to gestational diabetes mellitus status: a 20-Year prospective study in CARDIA (Coronary Artery Risk Development in Young Adults). Diabetes. 2010;59(2):495- 50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086E-9EA5-4D6F-B601-FF991E822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Contraception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Women with pre-existing DM or history of GDM are encouraged to have a planned pregnancy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Methods of contraception are based on patient’s preferences and risk factors according to the Medical Eligibility Criteria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Caution when using Depo-Provera because it may worsen the glycaemic control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31680" y="6105600"/>
            <a:ext cx="1216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 National Collaborating Centre for Women's and Children's Health (UK). Diabetes in pregnancy: management of diabetes and its complications from preconception to the postnatal period. London: NICE;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. Kapoor N, Sankaran S, Hyer S, et al. Diabetes in pregnancy: a review of current evidence. Curr Opin Obstet Gynecol. 2007;19(6):586-59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5673-5500-4E6C-8925-CB2B0274A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Contraception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pre-existing diabetes, there is insufficient evidence to demonstrate any significant difference in contraceptive efficacy and diabetes control between hormonal and non-hormonal contracep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In women with history of GDM, there is limited data to demonstrate that Levonorgestrel-intrauterine system does not negatively affect glucose tolerance (i.e. IFG and IGT) vs copper intrauterine device or tubal sterilisa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1680" y="5904000"/>
            <a:ext cx="1216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9. O’Reilly MW, Avalos G, Dennedy MC, et al. Atlantic DIP: high prevalence of abnormal glucose tolerance post partum is reduced by breast-feeding in women with prior gestational diabetes mellitus. Eur J Endocrinol. 2011;165(6):953-9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1. Kiley JW, Hammond C, Niznik C, et al. Postpartum glucose tolerance in women with gestational diabetes using levonorgestrel intrauterine contraception. Contraception. 2015;91(1):67-7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D344-922E-4D3C-BD3C-1AFD07089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Ainol</cp:lastModifiedBy>
  <dcterms:modified xsi:type="dcterms:W3CDTF">2018-07-19T06:36:05Z</dcterms:modified>
  <cp:revision>125</cp:revision>
  <dc:subject/>
  <dc:title>PowerPoint Presentation</dc:title>
</cp:coreProperties>
</file>